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DD2-6BFC-4C93-BA6E-8C284C8A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DD7-B6D8-4B44-8F31-33B5A8CE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3B5-B23E-4407-9FC1-634E6E6C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196-0E97-489F-90C8-3429F762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CABC-42E0-4ABF-9DBE-3007CA62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CA7A-27C3-4FD9-AC5A-33BFEA1F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89B2-D213-4CBD-8432-524DC8B3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92B5-CBD5-4A5D-856F-155EFDA0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4500-4EBF-46DF-BC67-2545A65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E3E-3762-4CD4-92C2-28381671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7BD8-A449-45FB-A9B9-529E5BC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166-5B5A-4ABF-9D9E-80A8EC98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918C-860C-4A0D-AEB0-F216F2A0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C0E2-3B83-4EB5-8DEF-7779E8D9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E350-96BD-44D4-8404-57B14381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4E09-6B15-4FAE-873B-69682FB9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427C-A6E0-4CC5-BB55-A19CB0C0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52AD-4AC3-44FD-AD10-EACAEF56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18D2-C1C8-470B-B035-483E5CF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C74C-E4DA-4E7F-9DB0-97964EF0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D74C-5616-424E-86FE-4C1EA707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EF2B-7FA3-4FA2-88A1-8A08943B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5DE-7BE8-472E-AC2D-E894B4F3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348F-922D-4D55-8BF1-22ED735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ECFF-19B7-4403-94A8-506052B0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D2AB-BB62-4B8F-B152-175C8F1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C2A7-D26D-4A1C-81EE-3474FE1B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6089-C8CA-4043-AB2B-4FD5482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E8AC-0B18-480A-B946-DDD592EA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0122-C6A7-45F5-AED1-86F85D2A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4C2-4165-432D-9132-4945934A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7EE-3F70-4C2C-B92D-6733FB1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52F-1ECB-42A6-88E3-F58D006B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4A5-291B-458C-A9CF-7A1908E1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420-0619-44DD-A4CB-06653B0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54F-C09C-43A3-B23E-F8074BD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329D-F242-4DC0-9764-9C19B04430F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94D7-F074-4136-8D6A-DC395FACE5DF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27B5-28CA-4C1A-BBF1-60D4980DE16D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2/Genf_Cath&#233;drale_St-Pierre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GÈNE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5" descr="180px-Escudo_de_Ginebra"/>
          <p:cNvPicPr/>
          <p:nvPr/>
        </p:nvPicPr>
        <p:blipFill>
          <a:blip r:embed="rId1"/>
          <a:stretch/>
        </p:blipFill>
        <p:spPr>
          <a:xfrm>
            <a:off x="2627280" y="1773360"/>
            <a:ext cx="3911760" cy="391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manger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85840" y="2362320"/>
            <a:ext cx="70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Les Tilleul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(délicieuses pizzas cuites au feu de bois-spécialités italienne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Le bistrot 37°2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méditerranéenne- spécialités marocai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Café Fontaine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du marché, innovante et créat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Bamboo Garden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de Corée, de Chine, de  Malaisie et d’Indonés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quesos"/>
          <p:cNvPicPr/>
          <p:nvPr/>
        </p:nvPicPr>
        <p:blipFill>
          <a:blip r:embed="rId1"/>
          <a:stretch/>
        </p:blipFill>
        <p:spPr>
          <a:xfrm rot="20313000">
            <a:off x="323640" y="404280"/>
            <a:ext cx="2774880" cy="217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vinos"/>
          <p:cNvPicPr/>
          <p:nvPr/>
        </p:nvPicPr>
        <p:blipFill>
          <a:blip r:embed="rId2"/>
          <a:stretch/>
        </p:blipFill>
        <p:spPr>
          <a:xfrm>
            <a:off x="108000" y="3213000"/>
            <a:ext cx="199548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Tahoma"/>
              </a:rPr>
              <a:t>Quelle est le climat dans cette ville d’après les saisons 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4" descr="invierno"/>
          <p:cNvPicPr/>
          <p:nvPr/>
        </p:nvPicPr>
        <p:blipFill>
          <a:blip r:embed="rId1"/>
          <a:stretch/>
        </p:blipFill>
        <p:spPr>
          <a:xfrm>
            <a:off x="395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verano"/>
          <p:cNvPicPr/>
          <p:nvPr/>
        </p:nvPicPr>
        <p:blipFill>
          <a:blip r:embed="rId2"/>
          <a:stretch/>
        </p:blipFill>
        <p:spPr>
          <a:xfrm>
            <a:off x="4788000" y="1700280"/>
            <a:ext cx="3828960" cy="2870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267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’h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788000" y="4610160"/>
            <a:ext cx="2674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’é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se procurer de l’argent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ahoma"/>
              </a:rPr>
              <a:t>Bureaux de Change à Genè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oney &amp; Com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pl. de Montbrillant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igros-Genèv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av. Louis-Casaï 2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BNC Change (Suisse)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e Zurich 3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Euro change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Paul-Bouchet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hange Cendrier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u Cendrier 1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igros-Genèv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u Mont-Blanc 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3789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Quelle est la monnaie du pays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6836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franc suisse (CHF) est utilisé par la Su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--   0,77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-- 1,08 D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 --4,39 Peso Argen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Archivo:CHF coins.jpg"/>
          <p:cNvPicPr/>
          <p:nvPr/>
        </p:nvPicPr>
        <p:blipFill>
          <a:blip r:embed="rId1"/>
          <a:stretch/>
        </p:blipFill>
        <p:spPr>
          <a:xfrm>
            <a:off x="6840360" y="4799160"/>
            <a:ext cx="1619280" cy="1942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rchivo:CHF Banknotes.jpg"/>
          <p:cNvPicPr/>
          <p:nvPr/>
        </p:nvPicPr>
        <p:blipFill>
          <a:blip r:embed="rId2"/>
          <a:stretch/>
        </p:blipFill>
        <p:spPr>
          <a:xfrm>
            <a:off x="6732720" y="1484280"/>
            <a:ext cx="184140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  <a:ea typeface="Calibri"/>
              </a:rPr>
              <a:t>Où est situé le pays choisi?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71760" y="1285920"/>
            <a:ext cx="3071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SUIS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16"/>
                </a:solidFill>
                <a:latin typeface="Tahoma"/>
              </a:rPr>
              <a:t>C’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t un pays d'Europe de l'Ouest sans accès à la m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le est entourée par l’Allemagne, la France, l’Italie, l’Autriche et le Liechtenste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pays est formé </a:t>
            </a:r>
            <a:r>
              <a:rPr b="0" lang="fr-FR" sz="2400" spc="-1" strike="noStrike">
                <a:solidFill>
                  <a:srgbClr val="161616"/>
                </a:solidFill>
                <a:latin typeface="Tahoma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26 cant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a capitale est Ber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0 Imagen" descr="713px-Europe-Switzerland.svg.png"/>
          <p:cNvPicPr/>
          <p:nvPr/>
        </p:nvPicPr>
        <p:blipFill>
          <a:blip r:embed="rId1"/>
          <a:stretch/>
        </p:blipFill>
        <p:spPr>
          <a:xfrm>
            <a:off x="357120" y="1285920"/>
            <a:ext cx="5612040" cy="472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ahoma"/>
              </a:rPr>
              <a:t>Où est située la ville choisie?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GÈNE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61616"/>
                </a:solidFill>
                <a:latin typeface="Tahoma"/>
              </a:rPr>
              <a:t>C’est la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euxième ville du pays ave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188 142 habi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61616"/>
                </a:solidFill>
                <a:latin typeface="Tahoma"/>
              </a:rPr>
              <a:t>Elle est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ituée sur les </a:t>
            </a:r>
            <a:r>
              <a:rPr b="0" lang="fr-FR" sz="3200" spc="-1" strike="noStrike">
                <a:solidFill>
                  <a:srgbClr val="161616"/>
                </a:solidFill>
                <a:latin typeface="Tahoma"/>
              </a:rPr>
              <a:t>bord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u lac de Genève au pied des Al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lle abrite le siège européen des Nations-U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ahoma"/>
              </a:rPr>
              <a:t>Que faire dans cette ville ?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39640" y="90252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e Lac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a Vieille Vill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e Bâtiment des Nations Unies et le Musée de la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roix-Roug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ro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arc du Bastion et la Place Neuv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âquis et Les Grotte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arché aux Puces de Plainpalai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e Salèv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Fêtes et Manifestations Cultur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onuments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ur des Réformateurs, l'Horloge Fleurie, le Monument Brunswick, le Jet d'eau et le Palais des Nations, La Cathédrale Saint-Pierre, le Musée international de la Ré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5689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et d’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Fichier:Genf Cathédrale St-Pier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692280"/>
            <a:ext cx="3888000" cy="2914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4643280" y="189000"/>
            <a:ext cx="5689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thédrale Saint-P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g_hi" descr="http://t3.gstatic.com/images?q=tbn:ANd9GcR9ehl6JqETiGk96RRWoyBlWO-ZWX8ryU0cKOLLQXeqNj2xV_Ge3A"/>
          <p:cNvPicPr/>
          <p:nvPr/>
        </p:nvPicPr>
        <p:blipFill>
          <a:blip r:embed="rId3"/>
          <a:stretch/>
        </p:blipFill>
        <p:spPr>
          <a:xfrm>
            <a:off x="5003640" y="3789360"/>
            <a:ext cx="2905200" cy="2808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755640" y="4797360"/>
            <a:ext cx="5689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âtiment des Nation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ies et le Musée de la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roix-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Fichier:Jet-d'eau-Genève.jpg"/>
          <p:cNvPicPr/>
          <p:nvPr/>
        </p:nvPicPr>
        <p:blipFill>
          <a:blip r:embed="rId4"/>
          <a:stretch/>
        </p:blipFill>
        <p:spPr>
          <a:xfrm>
            <a:off x="971640" y="836640"/>
            <a:ext cx="27972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42560" y="333000"/>
            <a:ext cx="51116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rou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Carouge, Suiza"/>
          <p:cNvPicPr/>
          <p:nvPr/>
        </p:nvPicPr>
        <p:blipFill>
          <a:blip r:embed="rId1"/>
          <a:stretch/>
        </p:blipFill>
        <p:spPr>
          <a:xfrm>
            <a:off x="1042920" y="907920"/>
            <a:ext cx="3600360" cy="252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27280" y="4770360"/>
            <a:ext cx="561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ché aux puces de Plainpalai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media-12125" descr="4966_1120855114513_1621127854_322301_5478568_n.jpg"/>
          <p:cNvPicPr/>
          <p:nvPr/>
        </p:nvPicPr>
        <p:blipFill>
          <a:blip r:embed="rId2"/>
          <a:stretch/>
        </p:blipFill>
        <p:spPr>
          <a:xfrm>
            <a:off x="395280" y="3716280"/>
            <a:ext cx="3024360" cy="2800440"/>
          </a:xfrm>
          <a:prstGeom prst="rect">
            <a:avLst/>
          </a:prstGeom>
          <a:ln w="0">
            <a:noFill/>
          </a:ln>
        </p:spPr>
      </p:pic>
      <p:pic>
        <p:nvPicPr>
          <p:cNvPr id="148" name="il_fi" descr="http://www.site-archeologique.ch/img_site/presse-3.jpg"/>
          <p:cNvPicPr/>
          <p:nvPr/>
        </p:nvPicPr>
        <p:blipFill>
          <a:blip r:embed="rId3"/>
          <a:stretch/>
        </p:blipFill>
        <p:spPr>
          <a:xfrm>
            <a:off x="5219640" y="981000"/>
            <a:ext cx="3086280" cy="21369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5148360" y="333360"/>
            <a:ext cx="5111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ieille-vil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ffcc"/>
                </a:solidFill>
                <a:uFillTx/>
                <a:latin typeface="Tahoma"/>
              </a:rPr>
              <a:t>L´impératrice Siss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il_fi" descr="http://farm4.static.flickr.com/3522/3724117712_aa28b35992.jpg"/>
          <p:cNvPicPr/>
          <p:nvPr/>
        </p:nvPicPr>
        <p:blipFill>
          <a:blip r:embed="rId1"/>
          <a:stretch/>
        </p:blipFill>
        <p:spPr>
          <a:xfrm>
            <a:off x="2843280" y="1268280"/>
            <a:ext cx="37512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Comment arriver à Genève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avion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r </a:t>
            </a:r>
            <a:r>
              <a:rPr b="0" lang="fr-FR" sz="3200" spc="-1" strike="noStrike">
                <a:solidFill>
                  <a:srgbClr val="161616"/>
                </a:solidFill>
                <a:latin typeface="Tahoma"/>
              </a:rPr>
              <a:t>l’autorou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train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394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Comment se déplacer dans la ville ?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thumb-avion_airbus_a380"/>
          <p:cNvPicPr/>
          <p:nvPr/>
        </p:nvPicPr>
        <p:blipFill>
          <a:blip r:embed="rId1"/>
          <a:stretch/>
        </p:blipFill>
        <p:spPr>
          <a:xfrm rot="20838000">
            <a:off x="493200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olectivo%20nuevo%20copy"/>
          <p:cNvPicPr/>
          <p:nvPr/>
        </p:nvPicPr>
        <p:blipFill>
          <a:blip r:embed="rId2"/>
          <a:stretch/>
        </p:blipFill>
        <p:spPr>
          <a:xfrm rot="555600">
            <a:off x="6227280" y="4797000"/>
            <a:ext cx="2190960" cy="1644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dormir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lasse budg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Les Arcad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Lid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St Gerva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lasse moyen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Admi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Capito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Des Alp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Hotel busi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övenpick Hotel &amp; Casino Gene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Plein aux 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Mandarin Orient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5:06:16Z</dcterms:created>
  <dc:creator>SOFIA ANTOGNINI</dc:creator>
  <dc:description/>
  <dc:language>en-US</dc:language>
  <cp:lastModifiedBy>Master</cp:lastModifiedBy>
  <dcterms:modified xsi:type="dcterms:W3CDTF">2011-04-14T17:19:41Z</dcterms:modified>
  <cp:revision>10</cp:revision>
  <dc:subject/>
  <dc:title>Où est situé le pays choisi? </dc:title>
</cp:coreProperties>
</file>